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9C8-4D3E-45DD-9E01-E3F630C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0FD-F302-433B-A822-FC0BB5A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048-739C-4A81-8F0D-6DF418BB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EAC-63DF-448F-AE4B-09E69151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B0F-E3A5-448A-9623-2095E3A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30-3A2C-4B0E-8E3B-A0535C0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3A8-2486-4062-A537-8432B5B6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DE5-952C-4C7E-9F73-6B934D4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05A-A098-4156-A0C2-1F1F3B5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427-FB5E-497D-BE73-BED36A2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633-6C46-4B6A-84E1-DCFD4CAA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5F7-C2A9-43C3-A9ED-7F179F26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B4A-E3B5-4DDF-847A-E39657897145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 يصنـــع العجـــائ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ن طلبت تكري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جيب الطلـ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قـدس ذا  الجسـ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  ضعفـه وإثمـ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ـه يحـل للمـ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480"/>
            <a:ext cx="472428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شـغل مـواهب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قـدسـاً  عـواط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مجـد  من أحبن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2:55:05Z</dcterms:created>
  <dc:creator>user</dc:creator>
  <dc:description/>
  <dc:language>en-US</dc:language>
  <cp:lastModifiedBy>user</cp:lastModifiedBy>
  <dcterms:modified xsi:type="dcterms:W3CDTF">2006-05-05T05:44:03Z</dcterms:modified>
  <cp:revision>13</cp:revision>
  <dc:subject/>
  <dc:title>Slide 1</dc:title>
</cp:coreProperties>
</file>